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AE7-F689-4BD5-915F-ECBEFB58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251-C705-47FA-911B-51CD0E04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7C9-8613-4E51-9A43-1CBC0C5B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B59-874D-438D-B5BA-31573E20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608A-F391-433C-BF74-4D75BF8A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E2F0-30C9-448A-BC6C-9437B0D2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1288-57E9-4AC5-84FE-6774253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D33C-61AB-4412-BADE-C5375E19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D5F5-82E4-4B49-87BD-41BF7DB1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E574-A6AE-4410-92CD-3E8586AE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E016-BC52-4E8D-9F92-301EA6B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BDA-0E7B-4D89-99D5-7B6A9521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0E5B-FCE4-4DCB-A662-AF81A727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6082-F6CA-4F67-9EF9-BB1F34F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CDB-C984-4C60-8FAF-5122CED8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399A-FCD8-44AD-AD7C-2F004F28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A0B1-4773-4DBF-8259-0CAD0674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CDD-05F7-4329-8A1E-B40AA559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3F6-2F1D-42BC-8922-1CBB20B2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1EF-D304-4837-8DF5-B8C56F2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2F3-F2B2-4588-8DBF-9DE712D7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0F7-AF1E-454F-B135-A336E2A7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B81-2D8E-409C-BE8C-51F4A6A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7C9-0989-49EF-8964-C49F820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2FC3-AD12-49A3-AC20-977FF3000A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E0C8-ED9C-4849-98FC-B3E15ACAA5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he Tragic Hero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ing your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fin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cannot become a hero until he sees the root of his own downfall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either die a hero or live long enough to see yourself become the villain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vey 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e rarely calls upon us at a moment of our choo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us P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ve Elements of the Tragic Her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of noble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artia – tragic flaw that brings about the ultimate down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eteia – reversal of fortune brought about by the tragic hero’s f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result in an increase of self-awareness and self-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ence must feel pity and fear for this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ther common tra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fall due to excessive pride (hub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med from the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e discovered through own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a king or leader of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ing of the hero must hav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ways male (Cleopatra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tony and Cleopa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dern Tragic Hero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y Loman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ath of a Sale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ry Smith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Cold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25:58Z</dcterms:created>
  <dc:creator>jvanengen</dc:creator>
  <dc:description/>
  <dc:language>en-US</dc:language>
  <cp:lastModifiedBy>Administrator</cp:lastModifiedBy>
  <dcterms:modified xsi:type="dcterms:W3CDTF">2011-08-28T18:09:38Z</dcterms:modified>
  <cp:revision>6</cp:revision>
  <dc:subject/>
  <dc:title>The Tragic Hero</dc:title>
</cp:coreProperties>
</file>